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F49-91FA-4D9B-A96E-E93482ED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A48-ADAC-4EE3-81D3-C7741145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8BD-9ECC-4E98-8D36-9E4087C4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31E-C10E-492E-9336-9754B3AE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AF7-F235-4C36-9A9E-CDD2DA30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5DC-FEC0-4819-AC85-55F2F5D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1BF-4A40-4CAC-BB9C-5E84273A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530-9A12-408D-8C41-DB6703D2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F5E-123C-4C65-8DDF-5A6EEC2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9F8-AB1D-41C1-AAD0-39C8B70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605-216B-4E42-B3C4-443FCB6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C86-F890-4F75-B0A8-A917E27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13FC-332B-44A5-B770-582ED7674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7520-A55A-4CAA-BB7D-F81A4153A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200400" y="152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havi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791320" y="152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me and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6705720" y="5715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ent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3733920" y="5638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adem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7"/>
          <p:cNvSpPr/>
          <p:nvPr/>
        </p:nvSpPr>
        <p:spPr>
          <a:xfrm>
            <a:off x="533520" y="2971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havior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32:23Z</dcterms:created>
  <dc:creator>Robert Frantum-Allen</dc:creator>
  <dc:description/>
  <dc:language>en-US</dc:language>
  <cp:lastModifiedBy>Jamie Spears</cp:lastModifiedBy>
  <dcterms:modified xsi:type="dcterms:W3CDTF">2012-04-08T17:25:14Z</dcterms:modified>
  <cp:revision>36</cp:revision>
  <dc:subject/>
  <dc:title>Slide 1</dc:title>
</cp:coreProperties>
</file>